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0CF589-733D-4B8E-9196-DFE0A5DC6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6EB839-40D2-4A24-8A2D-5803C0CAD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66AC55-1F49-49EF-BCBD-228C94973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Large charge/light rate is e/gamma-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mall charge/light ratio is nuclear recoil-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C760B-969E-45A9-B512-68B58690A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E35946-1A90-4F65-894D-FE7B17B93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Geometrical quenching of UV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o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FB2AEA-2CE1-44F1-821B-D3B573FD2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B8C-5F06-4A60-8937-F9B9EE4D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209-6917-431D-A3BA-7762AB98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173-9AA5-4608-8CFD-10F0256E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D5F-15B6-448E-9B9F-1F848F1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790-7EDB-4B43-9EEA-BC05F8B3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C6C-B2C6-42CB-9DF5-7534A5E1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6DE-C142-4CE9-904C-DB66F142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0D3-D174-43E7-B7F8-C2640F5E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73F-DB45-43CC-AE93-A9C587EB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B8C-8C6A-4210-AD27-72D4530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7FB-0884-4579-9EB5-294C209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40B-174B-4886-A480-F31C96F0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6/04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4360"/>
            <a:ext cx="2894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Clark NC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1019F-8F94-40D3-8326-FEFE01A3D0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21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Resistive Electrode GEM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(RETGEM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65760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Brian Cla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64832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North Carolina State University, 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Work conducted under the supervision of Professor Vladimir Peskov (CERN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FFF17-E56C-46C2-9B7A-0158CA670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in of 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n 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6108480" cy="4121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560493-D30A-4558-B7ED-0970A3B66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50520" cy="4476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360EA0-17B6-4AEC-9A02-FE28EA97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dicted Gain of &gt; 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7920" y="1749600"/>
            <a:ext cx="7291440" cy="42004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63062A-31E7-4301-B31A-86FD0E576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E1F4B0-46F8-4F00-8EF9-295B4A6F0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57840" cy="4676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lternative to PM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39760" y="1670040"/>
            <a:ext cx="6804000" cy="4548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F07B3-5C46-4D34-BF9B-D69F0B13C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50520" cy="447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8C0DE-90CA-4904-9B23-03DADEA43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0"/>
            <a:ext cx="82296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ability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(Two-Step RETGEM with Cs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0280" y="1749600"/>
            <a:ext cx="8040600" cy="4797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438C7-BC0F-4EA9-8D57-7D509F654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8000"/>
          </a:blip>
          <a:stretch/>
        </p:blipFill>
        <p:spPr>
          <a:xfrm>
            <a:off x="0" y="4191120"/>
            <a:ext cx="4241880" cy="2666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>
            <a:lum bright="78000"/>
          </a:blip>
          <a:stretch/>
        </p:blipFill>
        <p:spPr>
          <a:xfrm>
            <a:off x="601992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>
            <a:lum bright="74000"/>
          </a:blip>
          <a:stretch/>
        </p:blipFill>
        <p:spPr>
          <a:xfrm>
            <a:off x="0" y="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3817800" y="0"/>
            <a:ext cx="5326200" cy="2666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cknowledgement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ofessor Vladimir Pesk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University of Michig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Professor Jean Kr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Professor Homer N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Dr. Steven Goldfa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Jeremy He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ational Science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ord Motor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RN Summer Student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4C219-236A-44AF-A531-AD6530243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What is a G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79CFD2-1B46-45ED-8EC3-B14C5C747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905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1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70c0"/>
                </a:solidFill>
                <a:latin typeface="Calibri"/>
              </a:rPr>
              <a:t>Thin metal-insulator-metal structure densely perforated with small ho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068800" y="1981080"/>
            <a:ext cx="3846600" cy="383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53080" y="24382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i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pl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6236280" y="502920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3276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43434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y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>
            <a:stCxn id="64" idx="3"/>
          </p:cNvCxnSpPr>
          <p:nvPr/>
        </p:nvCxnSpPr>
        <p:spPr>
          <a:xfrm flipV="1">
            <a:off x="4952520" y="3504960"/>
            <a:ext cx="305640" cy="12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flipV="1">
            <a:off x="3887640" y="3733560"/>
            <a:ext cx="6105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4" idx="3"/>
          </p:cNvCxnSpPr>
          <p:nvPr/>
        </p:nvCxnSpPr>
        <p:spPr>
          <a:xfrm>
            <a:off x="4952520" y="3628800"/>
            <a:ext cx="38196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9" name="" descr=""/>
          <p:cNvPicPr/>
          <p:nvPr/>
        </p:nvPicPr>
        <p:blipFill>
          <a:blip r:embed="rId2"/>
          <a:srcRect l="0" t="0" r="0" b="9559"/>
          <a:stretch/>
        </p:blipFill>
        <p:spPr>
          <a:xfrm>
            <a:off x="457200" y="3886200"/>
            <a:ext cx="358128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ulti-Step GEM Set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57840" cy="4977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92B44-A315-46EA-82E0-125287BBB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eometric quenching suppresses feedba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reat for noble gaseous det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Manufactured by microelectronic technology which offers high granu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elatively cheap to produce in comparison to solid state det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st-effectiveness makes GEM ideal for experiments requiring a large detection 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B4FAAB-DD45-46CA-BA6A-A0FCF5CF1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ICA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XE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LH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COMP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HERA-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O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D180CF-CF81-4460-99E2-CECC4BA75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1219320" cy="1272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186084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1066680"/>
            <a:ext cx="1676160" cy="121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705720" y="2895480"/>
            <a:ext cx="2057400" cy="45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rcRect l="1079" t="8907" r="90278" b="11115"/>
          <a:stretch/>
        </p:blipFill>
        <p:spPr>
          <a:xfrm>
            <a:off x="7086600" y="40384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8296200" y="3886200"/>
            <a:ext cx="84780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12923" b="0"/>
          <a:stretch/>
        </p:blipFill>
        <p:spPr>
          <a:xfrm>
            <a:off x="533520" y="609480"/>
            <a:ext cx="799308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29CD9B-9C17-4A4A-A047-4827E2A71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91120" y="1676520"/>
            <a:ext cx="4343400" cy="3352680"/>
          </a:xfrm>
          <a:prstGeom prst="roundRect">
            <a:avLst>
              <a:gd name="adj" fmla="val 16667"/>
            </a:avLst>
          </a:prstGeom>
          <a:solidFill>
            <a:srgbClr val="ffc0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sistive Coating (RETGE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02920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park resis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B4F1F2-E14A-4B41-9DC7-1E07B4E4A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1063" t="-300" r="16373" b="0"/>
          <a:stretch/>
        </p:blipFill>
        <p:spPr>
          <a:xfrm>
            <a:off x="685800" y="1676520"/>
            <a:ext cx="3124080" cy="2886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182880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raditionally coated with Kapton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rst tests of RETGEMs manufactured by screen-printing technology*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6386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*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V. Peskov CERN Courier, May 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**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Developed by  R. Oliviera CERN/PMT/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514600"/>
            <a:ext cx="6705360" cy="2057400"/>
          </a:xfrm>
          <a:prstGeom prst="roundRect">
            <a:avLst>
              <a:gd name="adj" fmla="val 16667"/>
            </a:avLst>
          </a:prstGeom>
          <a:solidFill>
            <a:srgbClr val="ffc0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20680"/>
            <a:ext cx="8534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enefits of Screen-Printed RETG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590920"/>
            <a:ext cx="6553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bility to easily tune the resis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Low cost manufactu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idely available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6CADEE-D7E3-4CB4-88B3-1DA4E80FB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park Protec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39760" y="1517760"/>
            <a:ext cx="6980400" cy="3835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in of approx. 10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6/04/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3E909-C556-436B-BCFB-E00109C18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. Clark NC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1:36:46Z</dcterms:created>
  <dc:creator>Preferred Customer</dc:creator>
  <dc:description/>
  <dc:language>en-US</dc:language>
  <cp:lastModifiedBy>Preferred Customer</cp:lastModifiedBy>
  <dcterms:modified xsi:type="dcterms:W3CDTF">2007-08-08T12:51:34Z</dcterms:modified>
  <cp:revision>60</cp:revision>
  <dc:subject/>
  <dc:title>Resistive Gas Electron Multiplier Technology (RETGEM)</dc:title>
</cp:coreProperties>
</file>